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A14-FF3C-4543-84FE-C12753FD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968-0E89-469B-9B57-7EC0C602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E31-8EC5-4EA0-B0F1-472260EC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8385-4280-48A2-BBC2-C1569350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6B2-8691-4421-8A49-6ADC797C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DF3-9007-42CE-9516-E11B9E8C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81F-88A6-4507-96B5-670179DF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F29-7BC8-420C-9DF8-EF1C7C2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9A6-2F84-4DE9-92FA-677F73CD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072-3360-4C8B-8FC0-4C1A319A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309-7967-4C7C-9E05-FA0FDB36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8CF-ED1F-4F74-8ADD-550456B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54D6-F69F-40A6-9BAA-971AE5F8C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 2008_2009 Q1 Le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, Lists, Validati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 (html node struc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1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zichten naar het bo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ndeld word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 structuur: node rel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plan week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uu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ptops 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ken aan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ag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9:55:48Z</dcterms:created>
  <dc:creator>Arjo Post</dc:creator>
  <dc:description/>
  <dc:language>en-US</dc:language>
  <cp:lastModifiedBy>Arjo Post</cp:lastModifiedBy>
  <dcterms:modified xsi:type="dcterms:W3CDTF">2008-09-15T09:14:32Z</dcterms:modified>
  <cp:revision>4</cp:revision>
  <dc:subject/>
  <dc:title>FED 2008_2009 Q1 Les2</dc:title>
</cp:coreProperties>
</file>