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9599-6372-4166-AC4B-BBECEE44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82F-079F-4B6F-8848-6084438B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882E-2E4E-4396-ACF5-F413D878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B4E-C5CE-46CC-B7EF-F2AFCBEB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688-CFBC-4704-AC02-6F150180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6B85-1F9D-4892-AD31-4102E12F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4E9E-E9F0-4070-9233-2AECBA3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5579-1142-460B-8893-C317F11A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CC6E-9D6E-4C92-8E2E-88A93C4A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266D-4004-4455-A2C9-0F52EDC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528-E4C9-4D46-97D9-F394EFC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4A3-7D08-4F21-B3A6-B29BA422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8B00-C824-49FA-86F7-D8E7F02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2C25-4393-493F-A14D-20C55E5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8AB3-FC68-47A9-9E35-60C30FB4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858-8E73-4AC0-A425-8DF9E2A2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46AF-B85A-4FB2-95D1-CA488230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FC8-038E-436A-9487-66B47E69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1A5-7312-4EBC-BEAD-0F868819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1A4-2C48-4C56-AE44-E3F25D73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A54-1E5C-48B5-B397-37C216D8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082-4E85-4974-9012-A00E84AE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C70-7A6C-4816-BD08-422FA38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686-3087-4787-B5C1-5121DFCF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AFB6-1DB1-49D1-9C2B-E414673FB99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EC66-3D86-4EDD-BE02-3ECE6D30B5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entside DOM Scripting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t Javascrip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08/2009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Jaar1 Kwartaal2 Les2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Variabele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er om “iets” tijdelijk te onthoud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amgeving belangrij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se sensiti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bruik logische na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melCase handig (myFirstStringVa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“loose typing” (datatype niet verplicht opgeven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 = niet strict, declaratie vooraf niet nodig maar wel zo netjes (var gebruike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Express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itdruk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ithmetic: evaluates to a number, for examp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ing: evaluates to a character string, for example "Fred" or "234"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al: evaluates to true or fal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ie ook http://lib.ru/JAVA/javascr/expr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: alert, confirm, prom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eren dialog box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rt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EN return valu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firm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p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t tekst + OK + Cancel butt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gelijkheid om tekst in te 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urn value (true/fal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opdrach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raag om naam bij lade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ingevulde naam als &lt;h1&gt; koptek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on 10 teksten achter elkaar via een alert bij laden van pag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dracht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at gebruiker bij laden van pagina 2 getallen invoer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 deze getallen bij elkaar op en toon het resul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t is een Client?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lient is een computer in een netwerk die zich op dat netwerk gedraagt als een klant: hij haalt informatie op van een serv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computer wordt een client door bepaalde programma’s die daar op draaien zoals Firefox (browser) en Outlook (mai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Client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standen worden welliswaar van webserver gehaald maar de inhoud wordt lokaal in de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S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ash sw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koppe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e: zoals met CS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ntax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&lt;script type=“text/javascript” src=“bestand.js”&gt;&lt;/script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katie javascript best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hankelijk van doel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head&gt; section: javascript wordt uitgevoerd tijdens laden van &lt;head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&lt;body&gt; section: javascript wordt uitgevoerd tijdens laden van &lt;body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derop, tussen &lt;/head&gt; en &lt;/body&gt;: javascript wordt uitgevoerd als gehele pagina in de browser sta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s: altijd afvragen wanneer je wat uit wilt vo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en, methoden en AP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 DOM object = docu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thode = wri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bjecten en methodes te vinden via  javascript references (API-references)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I = Application Programming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ie http://www.gotapi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XHTML stri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script type="text/javascript"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!-- &lt;![CDATA[ Afschermen voor oude brow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cument.write("Hello, world")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/ ]]&gt; Einde afscherming --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&lt;/script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Commentaar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aar in code = belangrijk voor ontwikkela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niet door browser verwerk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 manier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regel //dit is commenta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/* start blok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inde blok *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vascript Datatype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ing (= tekst, alles tussen quot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umber (= numerieke gegevens, getall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olean (= schakelaar, aan of uit, true/fal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ijn er meer maar die worden later behande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5:49:30Z</dcterms:created>
  <dc:creator>Arjo Post</dc:creator>
  <dc:description/>
  <dc:language>en-US</dc:language>
  <cp:lastModifiedBy>Arjo Post</cp:lastModifiedBy>
  <dcterms:modified xsi:type="dcterms:W3CDTF">2008-11-24T08:40:21Z</dcterms:modified>
  <cp:revision>3</cp:revision>
  <dc:subject/>
  <dc:title>Clientside DOM Scripting met Javascript</dc:title>
</cp:coreProperties>
</file>